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215438" cy="7372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Franklin Gothic Heavy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BFCA-4472-4B1B-AABE-264EC02FD7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BD2C-AA9F-4DE6-9E2B-F85B3AE2F9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B80-3120-4ED1-95B5-876350C7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640" y="4404240"/>
            <a:ext cx="82454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0FD-5567-43C3-8F86-F9BFCED7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5640" y="44042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0960" y="44042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D61-BA7E-4B02-B33F-66356118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3480" y="20606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1320" y="20606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5640" y="44042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3480" y="44042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1320" y="44042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3CA-4709-4291-87AF-3AC5E07E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8C27-0F2C-473D-A318-B9DA75A9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274E-D383-4723-B469-5B3509A6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F2C9-3624-4CC8-AE03-E7D651A8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4FED-1C55-4080-93CC-C4A07AA5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6DBD-CAED-4459-AEC0-B84CE195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9680" y="77760"/>
            <a:ext cx="783432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CBE3-890E-4E4E-8CAD-3AF0EAE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640" y="44042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6704-E36E-4524-8F2D-B3CD5FC4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2CE-2643-471B-887B-5522BBE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0960" y="44042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CAF-38B1-42F8-AAFC-C892CF39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640" y="4404240"/>
            <a:ext cx="82454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D99C-326B-4D57-A859-AFCB685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640" y="4404240"/>
            <a:ext cx="82454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1A3F-0EE0-4DD9-807D-BB1677A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5640" y="44042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0960" y="44042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E32B-8747-4C7F-97E7-05B7648E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3480" y="20606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1320" y="20606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5640" y="44042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3480" y="44042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1320" y="4404240"/>
            <a:ext cx="26546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6B1-80EC-45C5-84A2-1DD840A1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BF1-B395-41A9-9CC7-D8D93D38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4A6-759C-4047-A92C-C498EF8C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2EC-5F73-48D4-8306-94BA84E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9680" y="77760"/>
            <a:ext cx="783432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35D-D6CF-4C01-92DC-87B36103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640" y="44042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368-96C2-4AB5-BD9C-DD4DF6E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0960" y="44042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753-29C0-4D9D-90BF-A32C06DB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960" y="2060640"/>
            <a:ext cx="402372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640" y="4404240"/>
            <a:ext cx="8245440" cy="2139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637-A348-49AC-9923-A26F3AC2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825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887480" indent="-450720">
              <a:spcBef>
                <a:spcPts val="825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2505240" indent="-368640">
              <a:spcBef>
                <a:spcPts val="825"/>
              </a:spcBef>
              <a:buClr>
                <a:srgbClr val="ffcc00"/>
              </a:buClr>
              <a:buFont typeface="Franklin Gothic Medium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3063960" indent="-379440">
              <a:spcBef>
                <a:spcPts val="825"/>
              </a:spcBef>
              <a:buClr>
                <a:srgbClr val="ffcc00"/>
              </a:buClr>
              <a:buFont typeface="Franklin Gothic Medium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3063960" indent="-379440">
              <a:spcBef>
                <a:spcPts val="825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3063960" indent="-379440">
              <a:spcBef>
                <a:spcPts val="825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4880" y="6697440"/>
            <a:ext cx="192096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49280" y="669744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4920" y="6697440"/>
            <a:ext cx="191952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DEE3-442F-437B-9507-D7A96C84DCC6}" type="slidenum">
              <a:rPr b="0" lang="de-DE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22320" y="1413000"/>
            <a:ext cx="8294760" cy="41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22320" y="1967040"/>
            <a:ext cx="82947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825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887480" indent="-450720">
              <a:spcBef>
                <a:spcPts val="825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2505240" indent="-368640">
              <a:spcBef>
                <a:spcPts val="825"/>
              </a:spcBef>
              <a:buClr>
                <a:srgbClr val="ffcc00"/>
              </a:buClr>
              <a:buFont typeface="Franklin Gothic Medium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3063960" indent="-379440">
              <a:spcBef>
                <a:spcPts val="825"/>
              </a:spcBef>
              <a:buClr>
                <a:srgbClr val="ffcc00"/>
              </a:buClr>
              <a:buFont typeface="Franklin Gothic Medium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3063960" indent="-379440">
              <a:spcBef>
                <a:spcPts val="825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3063960" indent="-379440">
              <a:spcBef>
                <a:spcPts val="825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7480" y="6697440"/>
            <a:ext cx="194472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74840" y="6697440"/>
            <a:ext cx="286704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56400" y="6697440"/>
            <a:ext cx="18432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03D1-37FB-4F14-B505-DFD2E71D03BB}" type="slidenum">
              <a:rPr b="0" lang="de-DE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nupt.de/wp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addons.mozilla.org/de/%0Bthunderbird/addon/7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1960" y="434880"/>
            <a:ext cx="7782120" cy="147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E-Mail-Verschlüsselung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60360" y="4622400"/>
            <a:ext cx="6451560" cy="2087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Franklin Gothic Heavy"/>
              </a:rPr>
              <a:t>2009-05-25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Franklin Gothic Heavy"/>
              </a:rPr>
              <a:t>Stefan Hensel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Franklin Gothic Heavy"/>
              </a:rPr>
              <a:t>Seminar: Office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Franklin Gothic Heavy"/>
              </a:rPr>
              <a:t>Dozent: Peter Medwed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Franklin Gothic Heavy"/>
              </a:rPr>
              <a:t>Staatliche Technikerschule Berlin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8"/>
          <p:cNvSpPr/>
          <p:nvPr/>
        </p:nvSpPr>
        <p:spPr>
          <a:xfrm>
            <a:off x="5545080" y="880920"/>
            <a:ext cx="1873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2000" spc="-1" strike="noStrike">
                <a:solidFill>
                  <a:srgbClr val="66ff33"/>
                </a:solidFill>
                <a:latin typeface="Franklin Gothic Medium"/>
              </a:rPr>
              <a:t>!</a:t>
            </a:r>
            <a:endParaRPr b="0" lang="en-US" sz="4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63640" y="880920"/>
            <a:ext cx="28591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2000" spc="-1" strike="noStrike">
                <a:solidFill>
                  <a:srgbClr val="ff6600"/>
                </a:solidFill>
                <a:latin typeface="Franklin Gothic Medium"/>
              </a:rPr>
              <a:t>?</a:t>
            </a:r>
            <a:endParaRPr b="0" lang="en-US" sz="4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Franklin Gothic Heavy"/>
              </a:rPr>
              <a:t>Wer braucht Verschlüsselung?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5280" y="2060640"/>
            <a:ext cx="404676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Franklin Gothic Medium"/>
              </a:rPr>
              <a:t>Militär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Franklin Gothic Medium"/>
              </a:rPr>
              <a:t>Geheimdienst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Franklin Gothic Medium"/>
              </a:rPr>
              <a:t>Untergrund-organisatione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Franklin Gothic Medium"/>
              </a:rPr>
              <a:t>Radikal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Franklin Gothic Medium"/>
              </a:rPr>
              <a:t>Kriminell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4680" y="2060640"/>
            <a:ext cx="4046400" cy="465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Unternehme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Banken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Online-Hand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Behörde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Journaliste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Rechtsanwält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901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u und ich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2" descr="680keys"/>
          <p:cNvPicPr/>
          <p:nvPr/>
        </p:nvPicPr>
        <p:blipFill>
          <a:blip r:embed="rId1"/>
          <a:srcRect l="17969" t="20462" r="21461" b="8155"/>
          <a:stretch/>
        </p:blipFill>
        <p:spPr>
          <a:xfrm>
            <a:off x="0" y="0"/>
            <a:ext cx="9217080" cy="7373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Franklin Gothic Heavy"/>
              </a:rPr>
              <a:t>Was wird verschlüsselt?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3456000" y="1906560"/>
            <a:ext cx="2305080" cy="86364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anklin Gothic Medium"/>
              </a:rPr>
              <a:t>Verschlüsselung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Franklin Gothic Medium"/>
              </a:rPr>
              <a:t>Verschleierung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23" name="Group 44"/>
          <p:cNvGrpSpPr/>
          <p:nvPr/>
        </p:nvGrpSpPr>
        <p:grpSpPr>
          <a:xfrm>
            <a:off x="1368360" y="3038400"/>
            <a:ext cx="6480360" cy="863640"/>
            <a:chOff x="1368360" y="3038400"/>
            <a:chExt cx="6480360" cy="863640"/>
          </a:xfrm>
        </p:grpSpPr>
        <p:sp>
          <p:nvSpPr>
            <p:cNvPr id="124" name="Rectangle 21"/>
            <p:cNvSpPr/>
            <p:nvPr/>
          </p:nvSpPr>
          <p:spPr>
            <a:xfrm>
              <a:off x="1368360" y="3038400"/>
              <a:ext cx="1943280" cy="863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anklin Gothic Medium"/>
                </a:rPr>
                <a:t>lokal</a:t>
              </a:r>
              <a:endParaRPr b="0" lang="en-US" sz="25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25" name="Rectangle 22"/>
            <p:cNvSpPr/>
            <p:nvPr/>
          </p:nvSpPr>
          <p:spPr>
            <a:xfrm>
              <a:off x="5905440" y="3038400"/>
              <a:ext cx="1943280" cy="863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Franklin Gothic Medium"/>
                </a:rPr>
                <a:t>remote</a:t>
              </a:r>
              <a:endParaRPr b="0" lang="en-US" sz="25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126" name="Group 46"/>
          <p:cNvGrpSpPr/>
          <p:nvPr/>
        </p:nvGrpSpPr>
        <p:grpSpPr>
          <a:xfrm>
            <a:off x="2460600" y="4191120"/>
            <a:ext cx="1943280" cy="2592360"/>
            <a:chOff x="2460600" y="4191120"/>
            <a:chExt cx="1943280" cy="2592360"/>
          </a:xfrm>
        </p:grpSpPr>
        <p:sp>
          <p:nvSpPr>
            <p:cNvPr id="127" name="Rectangle 24"/>
            <p:cNvSpPr/>
            <p:nvPr/>
          </p:nvSpPr>
          <p:spPr>
            <a:xfrm>
              <a:off x="2460600" y="4191120"/>
              <a:ext cx="1943280" cy="863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Franklin Gothic Medium"/>
                </a:rPr>
                <a:t>Partitionen</a:t>
              </a:r>
              <a:endParaRPr b="0" lang="en-US" sz="25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>
              <a:off x="2819520" y="5343480"/>
              <a:ext cx="1224000" cy="576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NTFS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29" name="Rectangle 28"/>
            <p:cNvSpPr/>
            <p:nvPr/>
          </p:nvSpPr>
          <p:spPr>
            <a:xfrm>
              <a:off x="3095640" y="6207120"/>
              <a:ext cx="1224000" cy="576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TrueCrypt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130" name="Group 47"/>
          <p:cNvGrpSpPr/>
          <p:nvPr/>
        </p:nvGrpSpPr>
        <p:grpSpPr>
          <a:xfrm>
            <a:off x="4608360" y="4191120"/>
            <a:ext cx="2664000" cy="2592360"/>
            <a:chOff x="4608360" y="4191120"/>
            <a:chExt cx="2664000" cy="2592360"/>
          </a:xfrm>
        </p:grpSpPr>
        <p:sp>
          <p:nvSpPr>
            <p:cNvPr id="131" name="Rectangle 30"/>
            <p:cNvSpPr/>
            <p:nvPr/>
          </p:nvSpPr>
          <p:spPr>
            <a:xfrm>
              <a:off x="4800600" y="4191120"/>
              <a:ext cx="1943280" cy="863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Franklin Gothic Medium"/>
                </a:rPr>
                <a:t>Übertragung</a:t>
              </a:r>
              <a:endParaRPr b="0" lang="en-US" sz="25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32" name="Rectangle 31"/>
            <p:cNvSpPr/>
            <p:nvPr/>
          </p:nvSpPr>
          <p:spPr>
            <a:xfrm>
              <a:off x="6048360" y="6207120"/>
              <a:ext cx="1224000" cy="576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HTTPS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5159520" y="5343480"/>
              <a:ext cx="1223640" cy="576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SSL, TLS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4608360" y="6207120"/>
              <a:ext cx="1224000" cy="576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WPA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135" name="Group 48"/>
          <p:cNvGrpSpPr/>
          <p:nvPr/>
        </p:nvGrpSpPr>
        <p:grpSpPr>
          <a:xfrm>
            <a:off x="7129440" y="4191120"/>
            <a:ext cx="1943280" cy="2592360"/>
            <a:chOff x="7129440" y="4191120"/>
            <a:chExt cx="1943280" cy="2592360"/>
          </a:xfrm>
        </p:grpSpPr>
        <p:sp>
          <p:nvSpPr>
            <p:cNvPr id="136" name="Rectangle 34"/>
            <p:cNvSpPr/>
            <p:nvPr/>
          </p:nvSpPr>
          <p:spPr>
            <a:xfrm>
              <a:off x="7129440" y="4191120"/>
              <a:ext cx="1943280" cy="863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Franklin Gothic Medium"/>
                </a:rPr>
                <a:t>Kommuni-</a:t>
              </a:r>
              <a:br>
                <a:rPr sz="2500"/>
              </a:br>
              <a:r>
                <a:rPr b="0" lang="de-DE" sz="2500" spc="-1" strike="noStrike">
                  <a:solidFill>
                    <a:srgbClr val="000000"/>
                  </a:solidFill>
                  <a:latin typeface="Franklin Gothic Medium"/>
                </a:rPr>
                <a:t>kation</a:t>
              </a:r>
              <a:endParaRPr b="0" lang="en-US" sz="25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37" name="Rectangle 38"/>
            <p:cNvSpPr/>
            <p:nvPr/>
          </p:nvSpPr>
          <p:spPr>
            <a:xfrm>
              <a:off x="7129440" y="5343480"/>
              <a:ext cx="1224000" cy="576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Remailer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>
              <a:off x="7848720" y="6207120"/>
              <a:ext cx="1224000" cy="576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TOR, JAP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sp>
        <p:nvSpPr>
          <p:cNvPr id="139" name="Rectangle 40"/>
          <p:cNvSpPr/>
          <p:nvPr/>
        </p:nvSpPr>
        <p:spPr>
          <a:xfrm>
            <a:off x="3637080" y="3040200"/>
            <a:ext cx="1942920" cy="863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Franklin Gothic Medium"/>
              </a:rPr>
              <a:t>E-Mail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40" name="Group 45"/>
          <p:cNvGrpSpPr/>
          <p:nvPr/>
        </p:nvGrpSpPr>
        <p:grpSpPr>
          <a:xfrm>
            <a:off x="144360" y="4191120"/>
            <a:ext cx="2592360" cy="2592360"/>
            <a:chOff x="144360" y="4191120"/>
            <a:chExt cx="2592360" cy="2592360"/>
          </a:xfrm>
        </p:grpSpPr>
        <p:sp>
          <p:nvSpPr>
            <p:cNvPr id="141" name="Rectangle 23"/>
            <p:cNvSpPr/>
            <p:nvPr/>
          </p:nvSpPr>
          <p:spPr>
            <a:xfrm>
              <a:off x="144360" y="4191120"/>
              <a:ext cx="1943280" cy="86364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Franklin Gothic Medium"/>
                </a:rPr>
                <a:t>Dateien</a:t>
              </a:r>
              <a:br>
                <a:rPr sz="2500"/>
              </a:br>
              <a:r>
                <a:rPr b="0" lang="de-DE" sz="2500" spc="-1" strike="noStrike">
                  <a:solidFill>
                    <a:srgbClr val="000000"/>
                  </a:solidFill>
                  <a:latin typeface="Franklin Gothic Medium"/>
                </a:rPr>
                <a:t>Ordner</a:t>
              </a:r>
              <a:endParaRPr b="0" lang="en-US" sz="25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42" name="Rectangle 25"/>
            <p:cNvSpPr/>
            <p:nvPr/>
          </p:nvSpPr>
          <p:spPr>
            <a:xfrm>
              <a:off x="1512720" y="6207120"/>
              <a:ext cx="1224000" cy="57636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(Signatur)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144360" y="6207120"/>
              <a:ext cx="1224000" cy="576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Stegano-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grafie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44" name="Rectangle 41"/>
            <p:cNvSpPr/>
            <p:nvPr/>
          </p:nvSpPr>
          <p:spPr>
            <a:xfrm>
              <a:off x="504720" y="5343480"/>
              <a:ext cx="1224000" cy="57636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FileCrypter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Franklin Gothic Medium"/>
                </a:rPr>
                <a:t>RAR, 7zip</a:t>
              </a:r>
              <a:endParaRPr b="0" lang="en-US" sz="20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pic>
        <p:nvPicPr>
          <p:cNvPr id="145" name="Picture 43" descr="paint"/>
          <p:cNvPicPr/>
          <p:nvPr/>
        </p:nvPicPr>
        <p:blipFill>
          <a:blip r:embed="rId2"/>
          <a:stretch/>
        </p:blipFill>
        <p:spPr>
          <a:xfrm>
            <a:off x="922320" y="1413000"/>
            <a:ext cx="82947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ffcc00"/>
                </a:solidFill>
                <a:latin typeface="Franklin Gothic Heavy"/>
              </a:rPr>
              <a:t>Übersich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Meilenstein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Einsatzgebiet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ffff66"/>
                </a:solidFill>
                <a:latin typeface="Franklin Gothic Medium"/>
              </a:rPr>
              <a:t>Symmetrische und asymmetrische Verschlüsselung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PGP und S/MIM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Praktischer Einsatz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Noch zu lösen …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Eine Schlüsselfrage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4338720" cy="465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5000"/>
          </a:bodyPr>
          <a:p>
            <a:pPr marL="443160" indent="0"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Problem der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4316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Schlüsselübertragung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43160" indent="-4431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Geheimer Schlüsse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43160" indent="-4431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Austausch über unsicheren Kanal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43160" indent="-443160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unsichere Verschlüsselung!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0" name="Picture 5" descr="75e03ea0-776e-4b9e-801d-988f2fca5344"/>
          <p:cNvPicPr/>
          <p:nvPr/>
        </p:nvPicPr>
        <p:blipFill>
          <a:blip r:embed="rId1"/>
          <a:srcRect l="18351" t="0" r="21549" b="0"/>
          <a:stretch/>
        </p:blipFill>
        <p:spPr>
          <a:xfrm>
            <a:off x="4848120" y="1906560"/>
            <a:ext cx="4368960" cy="54673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 flipH="1">
            <a:off x="6192000" y="5775480"/>
            <a:ext cx="2808360" cy="1296720"/>
          </a:xfrm>
          <a:prstGeom prst="wedgeRoundRectCallout">
            <a:avLst>
              <a:gd name="adj1" fmla="val 9694"/>
              <a:gd name="adj2" fmla="val -13714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Heavy"/>
              </a:rPr>
              <a:t>OMG! Unser Dosenöffner hat mitgehört!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968720" y="2462040"/>
            <a:ext cx="3168720" cy="648000"/>
          </a:xfrm>
          <a:prstGeom prst="wedgeRoundRectCallout">
            <a:avLst>
              <a:gd name="adj1" fmla="val -19439"/>
              <a:gd name="adj2" fmla="val 16666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Heavy"/>
              </a:rPr>
              <a:t>Also … das Tatzwort heißt „ORLYROTFLMAOKTHXBYE“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Public-Key-Verfahr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2060280"/>
            <a:ext cx="3907080" cy="472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9000"/>
          </a:bodyPr>
          <a:p>
            <a:pPr marL="415080" indent="-41508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Asymmetrische Verschlüsselung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15080" indent="-41508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Zwei zusammen-gehörende Schlüssel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032840" indent="-39960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Öffentlich – Verschlüsselung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032840" indent="-39960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Privat -- Entschlüsselung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5" name="Picture 4" descr="525px-Public_key_encryption"/>
          <p:cNvPicPr/>
          <p:nvPr/>
        </p:nvPicPr>
        <p:blipFill>
          <a:blip r:embed="rId1"/>
          <a:stretch/>
        </p:blipFill>
        <p:spPr>
          <a:xfrm>
            <a:off x="4392720" y="2174760"/>
            <a:ext cx="48243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616keys"/>
          <p:cNvPicPr/>
          <p:nvPr/>
        </p:nvPicPr>
        <p:blipFill>
          <a:blip r:embed="rId1"/>
          <a:srcRect l="2235" t="0" r="2235" b="2201"/>
          <a:stretch/>
        </p:blipFill>
        <p:spPr>
          <a:xfrm>
            <a:off x="0" y="2011320"/>
            <a:ext cx="9217080" cy="5362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Wie schmiedet man ein Schlüsselpaar?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640" y="2060280"/>
            <a:ext cx="8245440" cy="479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4525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Algorithmen basierend auf …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52520" indent="-45252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Faktorisierung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25720" indent="-43560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RSA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25720" indent="-43560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Rabin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52520" indent="-45252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Diskretem Logarithmus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25720" indent="-43560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Diffie-Hellman (angreifbar)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25720" indent="-43560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Elgamal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52520" indent="-45252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Elliptischen Kurven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25720" indent="-43560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kleinere Schlüssel bei gleicher Sicherheit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257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680000" y="3216240"/>
            <a:ext cx="3960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8000"/>
                </a:solidFill>
                <a:latin typeface="Franklin Gothic Medium"/>
              </a:rPr>
              <a:t>37.619 • 75.991 = ?</a:t>
            </a:r>
            <a:br>
              <a:rPr sz="2900"/>
            </a:br>
            <a:r>
              <a:rPr b="0" lang="de-DE" sz="2900" spc="-1" strike="noStrike">
                <a:solidFill>
                  <a:srgbClr val="cc0000"/>
                </a:solidFill>
                <a:latin typeface="Franklin Gothic Medium"/>
              </a:rPr>
              <a:t>2.858.705.429 = ? • ?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9320" y="77760"/>
            <a:ext cx="859140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Symmetrisch oder asymmetrisch?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280" y="2060640"/>
            <a:ext cx="4046760" cy="486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9000"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anklin Gothic Medium"/>
              </a:rPr>
              <a:t>Symmetrisch: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461880" indent="-461880">
              <a:spcBef>
                <a:spcPts val="799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viele Schlüssel</a:t>
            </a:r>
            <a:br>
              <a:rPr sz="3200"/>
            </a:b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(quadratisch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461880" indent="-461880">
              <a:spcBef>
                <a:spcPts val="799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&gt; 2 Empfänger:</a:t>
            </a:r>
            <a:br>
              <a:rPr sz="3200"/>
            </a:b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zunehmend unsich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461880" indent="-461880">
              <a:spcBef>
                <a:spcPts val="799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Übertragungs-Problem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461880" indent="-461880">
              <a:spcBef>
                <a:spcPts val="799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008000"/>
                </a:solidFill>
                <a:latin typeface="Franklin Gothic Medium"/>
              </a:rPr>
              <a:t>schnel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4680" y="2060640"/>
            <a:ext cx="4046400" cy="486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9000"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anklin Gothic Medium"/>
              </a:rPr>
              <a:t>Asymmetrisch: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461880" indent="-461880">
              <a:spcBef>
                <a:spcPts val="799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008000"/>
                </a:solidFill>
                <a:latin typeface="Franklin Gothic Medium"/>
              </a:rPr>
              <a:t>wenige Schlüssel</a:t>
            </a:r>
            <a:br>
              <a:rPr sz="3200"/>
            </a:br>
            <a:r>
              <a:rPr b="0" lang="de-DE" sz="3200" spc="-1" strike="noStrike">
                <a:solidFill>
                  <a:srgbClr val="008000"/>
                </a:solidFill>
                <a:latin typeface="Franklin Gothic Medium"/>
              </a:rPr>
              <a:t>(linear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461880" indent="-461880">
              <a:spcBef>
                <a:spcPts val="799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&gt; 2 Empfänger:</a:t>
            </a:r>
            <a:br>
              <a:rPr sz="3200"/>
            </a:b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Mehrfach-verschlüsselu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461880" indent="-461880">
              <a:spcBef>
                <a:spcPts val="799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Franklin Gothic Medium"/>
              </a:rPr>
              <a:t>Man-In-The-Middle-</a:t>
            </a: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Angriff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marL="461880" indent="-461880">
              <a:spcBef>
                <a:spcPts val="799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200" spc="-1" strike="noStrike">
                <a:solidFill>
                  <a:srgbClr val="cc0000"/>
                </a:solidFill>
                <a:latin typeface="Franklin Gothic Medium"/>
              </a:rPr>
              <a:t>langsam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LeslieBrooksSymmetry"/>
          <p:cNvPicPr/>
          <p:nvPr/>
        </p:nvPicPr>
        <p:blipFill>
          <a:blip r:embed="rId1"/>
          <a:stretch/>
        </p:blipFill>
        <p:spPr>
          <a:xfrm>
            <a:off x="4879800" y="1887480"/>
            <a:ext cx="4337280" cy="5127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9320" y="77760"/>
            <a:ext cx="85201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Symmetrisch </a:t>
            </a:r>
            <a:r>
              <a:rPr b="0" i="1" lang="de-DE" sz="4100" spc="-1" strike="noStrike">
                <a:solidFill>
                  <a:srgbClr val="000000"/>
                </a:solidFill>
                <a:latin typeface="Franklin Gothic Heavy"/>
              </a:rPr>
              <a:t>und</a:t>
            </a: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 asymmetrisch.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2060640"/>
            <a:ext cx="462780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0"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Hybrid-Verschlüsselung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Inhalt 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symmetrisch verschlüssel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Schlüssel asymmetrisch verschlüssel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Hybrid-Verschlüsselung: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Doppelt genäht hält besser.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5640" y="2060280"/>
            <a:ext cx="3546720" cy="479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726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Zufälligen Schlüssel (Session Key) erzeugen (1)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726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Inhalt symmetrisch verschlüsseln (2)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726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Session Key asymmetrisch verschlüsseln (3)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Picture 4" descr="HYBRID"/>
          <p:cNvPicPr/>
          <p:nvPr/>
        </p:nvPicPr>
        <p:blipFill>
          <a:blip r:embed="rId1"/>
          <a:stretch/>
        </p:blipFill>
        <p:spPr>
          <a:xfrm>
            <a:off x="4232160" y="1906560"/>
            <a:ext cx="4984920" cy="54673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836320" y="296712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cc0000"/>
                </a:solidFill>
                <a:latin typeface="Franklin Gothic Medium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836320" y="40464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cc0000"/>
                </a:solidFill>
                <a:latin typeface="Franklin Gothic Medium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636320" y="40464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cc0000"/>
                </a:solidFill>
                <a:latin typeface="Franklin Gothic Medium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ffcc00"/>
                </a:solidFill>
                <a:latin typeface="Franklin Gothic Heavy"/>
              </a:rPr>
              <a:t>Übersich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Meilenstein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Einsatzgebiet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Symmetrische und asymmetrische Verschlüsselung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ffff66"/>
                </a:solidFill>
                <a:latin typeface="Franklin Gothic Medium"/>
              </a:rPr>
              <a:t>PGP und S/MIM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Praktischer Einsatz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Noch zu lösen …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Vier Nachricht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5000"/>
          </a:bodyPr>
          <a:p>
            <a:pPr marL="443160" indent="-4431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Schaden der deutschen Wirtschaft durch IT-Angriffe: Mehrere Milliarden Euro pro Jahr.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43160" indent="-4431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Gmail scannt E-Mails und wertet sie aus.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43160" indent="-4431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Über 10.000 Laptops verschwinden pro Woche auf US-Flughäfen.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43160" indent="-4431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Beratungsstellen werden nicht mehr angerufen oder angemailt.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OpenPGP – 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Ein Industriestandard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Internet-Standard (RFC 4880)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basiert auf PGP 5.x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Hybrides Verschlüsselungssystem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Public Key Infrastructure</a:t>
            </a: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Schlüsselserver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Web of Trust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887480" indent="-450720">
              <a:spcBef>
                <a:spcPts val="624"/>
              </a:spcBef>
              <a:buClr>
                <a:srgbClr val="ffcc00"/>
              </a:buClr>
              <a:buFont typeface="Wingdings" charset="2"/>
              <a:buChar char="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Franklin Gothic Medium"/>
              </a:rPr>
              <a:t>Hierarchische PKI implementierbar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S/MIME – 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Noch ein Industriestandard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Standard eines Herstellerkonsortiums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basiert auf RFC 2311 – 2315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Hybrides Verschlüsselungssystem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Public Key Infrastructure</a:t>
            </a: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Zertifizierungsstellen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hierarchisch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OpenPGP vs. S/MIME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5640" y="2060640"/>
          <a:ext cx="8245440" cy="4603680"/>
        </p:xfrm>
        <a:graphic>
          <a:graphicData uri="http://schemas.openxmlformats.org/drawingml/2006/table">
            <a:tbl>
              <a:tblPr/>
              <a:tblGrid>
                <a:gridCol w="2394000"/>
                <a:gridCol w="3097440"/>
                <a:gridCol w="275400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OpenP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S/M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Prinz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hybr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hybr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Signat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Algorithmen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(asymmetrisc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RSA, ElGamal,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Elliptic Curve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, Diffie-Hellma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R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Algorithmen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(symmetrisc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TripleDES, IDEA, CAST5, Blowfish, SAFER-SK128, Twofish, (DES/SK, AES/Rijndael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TripleDES, DES, RC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OpenPGP vs. S/MIME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85640" y="2060640"/>
          <a:ext cx="8245440" cy="4238640"/>
        </p:xfrm>
        <a:graphic>
          <a:graphicData uri="http://schemas.openxmlformats.org/drawingml/2006/table">
            <a:tbl>
              <a:tblPr/>
              <a:tblGrid>
                <a:gridCol w="2683080"/>
                <a:gridCol w="2663640"/>
                <a:gridCol w="289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OpenP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S/M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Standardisier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RF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IE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P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Öffentliche Schlüssel (flexibel)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Netzwerk, (Hierarchi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Zertifizierungs-stellen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hierarchisch (X.50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Betriebssyst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fast a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Windows bevorzu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geeignet fü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E-Mails, Dateien, Partitionen, IP-Traff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E-Mai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ffcc00"/>
                </a:solidFill>
                <a:latin typeface="Franklin Gothic Heavy"/>
              </a:rPr>
              <a:t>Übersich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Meilenstein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Einsatzgebiet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Symmetrische und asymmetrische Verschlüsselung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PGP und S/MIM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ffff66"/>
                </a:solidFill>
                <a:latin typeface="Franklin Gothic Medium"/>
              </a:rPr>
              <a:t>Praktischer Einsatz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Noch zu lösen …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Verschlüsselung praktisch: GnuP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Komponenten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GnuPG (Gnu Privacy Guard)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Frontend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WinPT (Windows Privacy Tray)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 u="sng">
                <a:solidFill>
                  <a:srgbClr val="996633"/>
                </a:solidFill>
                <a:uFillTx/>
                <a:latin typeface="Franklin Gothic Medium"/>
                <a:hlinkClick r:id="rId1"/>
              </a:rPr>
              <a:t>http://www.gnupt.de/wp/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GnuPG: Schlüssel generier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187" name="Picture 4" descr="01 - Neuer Schlüssel"/>
          <p:cNvPicPr/>
          <p:nvPr/>
        </p:nvPicPr>
        <p:blipFill>
          <a:blip r:embed="rId1"/>
          <a:srcRect l="0" t="0" r="29132" b="44104"/>
          <a:stretch/>
        </p:blipFill>
        <p:spPr>
          <a:xfrm>
            <a:off x="468360" y="2174760"/>
            <a:ext cx="8280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GnuPG: Schlüssel generier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189" name="Picture 4" descr="02 - Schlüsselnamen"/>
          <p:cNvPicPr/>
          <p:nvPr/>
        </p:nvPicPr>
        <p:blipFill>
          <a:blip r:embed="rId1"/>
          <a:stretch/>
        </p:blipFill>
        <p:spPr>
          <a:xfrm>
            <a:off x="2084400" y="1906560"/>
            <a:ext cx="5045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GnuPG: Schlüssel generier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191" name="Picture 5" descr="04 - Schlüsselerzeugung"/>
          <p:cNvPicPr/>
          <p:nvPr/>
        </p:nvPicPr>
        <p:blipFill>
          <a:blip r:embed="rId1"/>
          <a:stretch/>
        </p:blipFill>
        <p:spPr>
          <a:xfrm>
            <a:off x="1440000" y="2319480"/>
            <a:ext cx="63370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Verschlüsselung praktisch: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Enigmail und Thunderbird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5640" y="2060280"/>
            <a:ext cx="8245440" cy="472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0"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Enigmail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Add-on für Thunderbird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integriert 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OpenPGP-Verschlüsselung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Authentifizierung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OpenPGP/GnuPG muss installiert sein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 u="sng">
                <a:solidFill>
                  <a:srgbClr val="996633"/>
                </a:solidFill>
                <a:uFillTx/>
                <a:latin typeface="Franklin Gothic Medium"/>
                <a:hlinkClick r:id="rId1"/>
              </a:rPr>
              <a:t>https://addons.mozilla.org/de/_x000b_thunderbird/addon/71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0">
              <a:spcBef>
                <a:spcPts val="726"/>
              </a:spcBef>
              <a:buNone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ffcc00"/>
                </a:solidFill>
                <a:latin typeface="Franklin Gothic Heavy"/>
              </a:rPr>
              <a:t>Übersich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ffff66"/>
                </a:solidFill>
                <a:latin typeface="Franklin Gothic Medium"/>
              </a:rPr>
              <a:t>Meilenstein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Einsatzgebiet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Symmetrische und asymmetrische Verschlüsselung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PGP und S/MIM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Praktischer Einsatz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Noch zu lösen …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Verschlüsselung praktisch: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Enigmail und Thunderbird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89080" y="1906560"/>
            <a:ext cx="6048360" cy="4371840"/>
            <a:chOff x="289080" y="1906560"/>
            <a:chExt cx="6048360" cy="4371840"/>
          </a:xfrm>
        </p:grpSpPr>
        <p:pic>
          <p:nvPicPr>
            <p:cNvPr id="196" name="Picture 6" descr="01 - Verschlüsselung einstellen p"/>
            <p:cNvPicPr/>
            <p:nvPr/>
          </p:nvPicPr>
          <p:blipFill>
            <a:blip r:embed="rId1"/>
            <a:stretch/>
          </p:blipFill>
          <p:spPr>
            <a:xfrm>
              <a:off x="289080" y="1906560"/>
              <a:ext cx="604836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8"/>
            <p:cNvSpPr/>
            <p:nvPr/>
          </p:nvSpPr>
          <p:spPr>
            <a:xfrm>
              <a:off x="2903760" y="2084400"/>
              <a:ext cx="2892600" cy="841320"/>
            </a:xfrm>
            <a:prstGeom prst="rect">
              <a:avLst/>
            </a:prstGeom>
            <a:noFill/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pic>
        <p:nvPicPr>
          <p:cNvPr id="198" name="Picture 7" descr="02 - Passphrase eingeben"/>
          <p:cNvPicPr/>
          <p:nvPr/>
        </p:nvPicPr>
        <p:blipFill>
          <a:blip r:embed="rId2"/>
          <a:stretch/>
        </p:blipFill>
        <p:spPr>
          <a:xfrm>
            <a:off x="3672000" y="4767120"/>
            <a:ext cx="5067360" cy="21243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1"/>
          <p:cNvSpPr/>
          <p:nvPr/>
        </p:nvSpPr>
        <p:spPr>
          <a:xfrm>
            <a:off x="6624720" y="2606760"/>
            <a:ext cx="2376360" cy="1368360"/>
          </a:xfr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Franklin Gothic Medium"/>
              </a:rPr>
              <a:t>Öffentlicher Schlüssel des Empfänger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Verschlüsselung praktisch: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Enigmail und Thunderbird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201" name="Picture 3" descr="03 - Verschlüsselte Mail empfangen"/>
          <p:cNvPicPr/>
          <p:nvPr/>
        </p:nvPicPr>
        <p:blipFill>
          <a:blip r:embed="rId1"/>
          <a:stretch/>
        </p:blipFill>
        <p:spPr>
          <a:xfrm>
            <a:off x="576360" y="1906560"/>
            <a:ext cx="5903640" cy="40845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04720" y="2751120"/>
            <a:ext cx="6048360" cy="5032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6769080" y="4622760"/>
            <a:ext cx="2448000" cy="1368360"/>
          </a:xfr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Franklin Gothic Medium"/>
              </a:rPr>
              <a:t>Privater Schlüssel des Empfänger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Verschlüsselung praktisch: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Enigmail und Thunderbird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205" name="Picture 3" descr="03 - Verschlüsselte Mail ohne Entschlüsselung"/>
          <p:cNvPicPr/>
          <p:nvPr/>
        </p:nvPicPr>
        <p:blipFill>
          <a:blip r:embed="rId1"/>
          <a:srcRect l="0" t="31000" r="10734" b="4782"/>
          <a:stretch/>
        </p:blipFill>
        <p:spPr>
          <a:xfrm>
            <a:off x="647640" y="2462040"/>
            <a:ext cx="4608720" cy="41767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206" name="AutoShape 4"/>
          <p:cNvSpPr/>
          <p:nvPr/>
        </p:nvSpPr>
        <p:spPr>
          <a:xfrm>
            <a:off x="6553080" y="4695840"/>
            <a:ext cx="2016360" cy="1584360"/>
          </a:xfr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Franklin Gothic Medium"/>
              </a:rPr>
              <a:t>Was tatsächlich übermittelt wur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20720" y="2462040"/>
            <a:ext cx="4248000" cy="72072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5977080" y="2254320"/>
            <a:ext cx="2016000" cy="1289160"/>
          </a:xfr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800" spc="-1" strike="noStrike">
                <a:solidFill>
                  <a:srgbClr val="008000"/>
                </a:solidFill>
                <a:latin typeface="Franklin Gothic Medium"/>
              </a:rPr>
              <a:t>Verfahren im Klartext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ffcc00"/>
                </a:solidFill>
                <a:latin typeface="Franklin Gothic Heavy"/>
              </a:rPr>
              <a:t>Übersich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Meilenstein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Einsatzgebiet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Symmetrische und asymmetrische Verschlüsselung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PGP und S/MIM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cc9900"/>
                </a:solidFill>
                <a:latin typeface="Franklin Gothic Medium"/>
              </a:rPr>
              <a:t>Praktischer Einsatz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ffff66"/>
                </a:solidFill>
                <a:latin typeface="Franklin Gothic Medium"/>
              </a:rPr>
              <a:t>Noch zu lösen …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Noch zu lösen …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Zwei konkurrierende Standards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60640" indent="-449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PGP und S/MIME inkompatibel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trotz gleicher Verfahren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Wenige Teilnehmer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Mobiler Einsatz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Überwachung der Verkehrsdaten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Vertrauen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Cat Spy"/>
          <p:cNvPicPr/>
          <p:nvPr/>
        </p:nvPicPr>
        <p:blipFill>
          <a:blip r:embed="rId1"/>
          <a:srcRect l="0" t="3162" r="0" b="7620"/>
          <a:stretch/>
        </p:blipFill>
        <p:spPr>
          <a:xfrm>
            <a:off x="0" y="1906560"/>
            <a:ext cx="9217080" cy="5467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… </a:t>
            </a: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aber: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31640" y="2822040"/>
            <a:ext cx="4483440" cy="3527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5400" spc="-1" strike="noStrike">
                <a:solidFill>
                  <a:srgbClr val="ffff66"/>
                </a:solidFill>
                <a:latin typeface="Franklin Gothic Medium"/>
              </a:rPr>
              <a:t>Privatsphäre</a:t>
            </a:r>
            <a:br>
              <a:rPr sz="5400"/>
            </a:br>
            <a:r>
              <a:rPr b="0" lang="de-DE" sz="5400" spc="-1" strike="noStrike">
                <a:solidFill>
                  <a:srgbClr val="ffff66"/>
                </a:solidFill>
                <a:latin typeface="Franklin Gothic Medium"/>
              </a:rPr>
              <a:t>ist ein Menschen-recht!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Quell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Arbeitskreis Vorratsdatenspeicherung (2008): Forsa-Umfrage: Vorratsdatenspeicherung verhindert sensible Gespräche. Pressemitteilung des Arbeitskreis Vorratsdatenspeicherung vom 03./04.06.2008. Arbeitskreis Vorratsdatenspeicherung. Online verfügbar unter http://www.daten-speicherung.de/data/forsa_2008-06-03.pdf, zuletzt aktualisiert am 2008-06-03 Di, zuletzt geprüft am 2009-05-24 S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Bundesnetzagentur (2009): Bundesnetzagentur | Häufig gestellte Fragen zur Vorratsdatenspeicherung. Bundesnetzagentur. Online verfügbar unter http://www.bundesnetzagentur.de/enid/Informationen_zum_Thema__Vorratsdatenspeicherung_/Haeufig_gestellte_Fragen_zur_Vorratsdatenspeicheru_4rq.html, zuletzt aktualisiert am 2009-05-24, zuletzt geprüft am 2009-05-24 S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Financial Times Deutschland online (2009): FTD.de - Forschungsprojekt: Alarmanlage gegen Hacker-Angriffe - Forschung. Financial Times Deutschland online. Online verfügbar unter http://www.ftd.de/forschung_bildung/forschung/:Forschungsprojekt-Alarmanlage-gegen-Hacker-Angriffe/497283.html, zuletzt aktualisiert am 2009-04-06, zuletzt geprüft am 2009-05-25 M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Hauer, Philipp (2006-12-13): Asymmetrische Verschlüsselung. Theoretische Abhandlung. Eine Präsentation von Philipp Hauer 2006. Veranstaltung vom 2006-12-13. Ribnitz-Damgarten. Online verfügbar unter http://www.philipphauer.de/info/info/asymmetrische-verschluesselung/asymmetrische-Verschluesselung.ppt, zuletzt geprüft am 2009-05-24 S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Hauer, Philipp (2006): Asymmetrische Verschlüsselung/Public-Key-Verfahren. Das Verfahren. Die Vorteile/Pro und Nachteile/Kontra. Eine Präsentation von Philipp Hauer vom 13.12.2006. Erstmals gehalten am Richard-Wossidlo-Gymnasium. Online verfügbar unter http://www.philipphauer.de/info/info/asymmetrische-verschluesselung/, zuletzt aktualisiert am 24.05.09, zuletzt geprüft am 2009-05-24 S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Kersken, Sascha (2008): IT-Handbuch für Fachinformatiker. 19.2 Netzwerk- und Serversicherheit. Galileo Press. (Galileo Computing). Online verfügbar unter http://openbook.galileocomputing.de/it_handbuch/fachinformatiker_19_it_sicherheit_002.htm, zuletzt aktualisiert am 2007-10-31, zuletzt geprüft am 2009-05-23 Sa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Kirsch, Christian (2001): S/MIME vs. OpenPGP: Eine Entscheidungshilfe. Management und Wissen. E-Mail-Verschlüsselung. Online verfügbar unter http://www.kes.info/archiv/online/01-01-60-SMIMEvsOpenPGP.htm, zuletzt aktualisiert am 2001-05-17, zuletzt geprüft am 2009-05-25 M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Kreutzmann, Ralf: GnuPT 3.6.4 | Gnu Privacy Tools. Online verfügbar unter http://www.gnupt.de/wp/?p=3, zuletzt geprüft am 2009-05-25 M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mozilla.org (2008): Enigmail :: Thunderbird Add-ons. mozilla.org. Online verfügbar unter https://addons.mozilla.org/de/thunderbird/addon/71, zuletzt geprüft am 2009-05-25 M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Müller-Quade, Jörn (o. J.): Hieroglyphen, Enigma, RSA. Eine Geschichte der Kryptographie. Fakultät für Informatik, Universität Karlsruhe (TH). Online verfügbar unter http://iaks-www.ira.uka.de/eiss/fileadmin/User/enigma.pdf, zuletzt aktualisiert am 2006-10-26 Do, zuletzt geprüft am 2009-05-24 So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Otto, Alexander (2003): Internet-Sicherheit für Einsteiger. Für Homeanwender &amp; kleine Firmennetze. Sicherheitslücken &amp; Abwehrmaßnahmen, Schritt-für-Schritt-Anleitungen, CD-ROM mit vielen Sicherheits-Tools. 1. Aufl. Bonn: Galileo Press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Patholog [Pseudonym] (2008): Gmail and expose… Security for Dummies. Online verfügbar unter http://security4dummies.wordpress.com/2008/07/12/gmail-and-expose/, zuletzt aktualisiert am 23.05.09, zuletzt geprüft am 2009-05-23 Sa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marL="42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anklin Gothic Medium"/>
              </a:rPr>
              <a:t>Shah, Agam (2008): Laptops Lost Like Hot Cakes at US Airports - Business Center - PC World. Monday, June 30, 2008 12:30 PM PDT. PC World Business Center. Online verfügbar unter http://www.pcworld.com/businesscenter/article/147739/laptops_lost_like_hot_cakes_at_us_airports.html, zuletzt aktualisiert am 2009-05-23, zuletzt geprüft am 2009-05-23 Sa.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Quell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S/MIME - Wikipedia, the free encyclopedia. Wikipedia (de). Online verfügbar unter http://en.wikipedia.org/wiki/S/MIME, zuletzt aktualisiert am 2009-05-18, zuletzt geprüft am 2009-05-25 M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Telekommunikations-Überwachungsverordnung – Wikipedia. Wikipedia (de). Online verfügbar unter http://de.wikipedia.org/wiki/TK%C3%9CV, zuletzt aktualisiert am 2009-05-19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Symmetrisches Kryptosystem – Wikipedia. Wikipedia (de). Online verfügbar unter http://de.wikipedia.org/wiki/Symmetrisches_Kryptosystem, zuletzt aktualisiert am 2009-05-12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Enigma (Maschine) – Wikipedia. Wikipedia (de). Online verfügbar unter http://de.wikipedia.org/wiki/Enigma_(Maschine), zuletzt aktualisiert am 2009-05-16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Diffie-Hellman-Schlüsselaustausch – Wikipedia. Wikipedia (de). Online verfügbar unter http://de.wikipedia.org/wiki/Diffie-Hellman-Algorithmus, zuletzt aktualisiert am 2009-05-20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Kryptographie – Wikipedia. Wikipedia (de). Online verfügbar unter http://de.wikipedia.org/wiki/Kryptographie, zuletzt aktualisiert am 2009-05-22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Vorratsdatenspeicherung – Wikipedia. Wikipedia (de). Online verfügbar unter http://de.wikipedia.org/wiki/Vorratsdatenspeicherung, zuletzt aktualisiert am 2009-05-23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RSA-Kryptosystem – Wikipedia. Wikipedia (de). Online verfügbar unter http://de.wikipedia.org/wiki/RSA-Kryptosystem, zuletzt aktualisiert am 2009-05-20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Geschichte der Kryptographie – Wikipedia. Wikipedia (de). Online verfügbar unter http://de.wikipedia.org/wiki/Geschichte_der_Kryptographie, zuletzt aktualisiert am 2009-05-22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Quell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8000"/>
          </a:bodyPr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Asymmetrisches Kryptosystem – Wikipedia. Wikipedia (de). Online verfügbar unter http://de.wikipedia.org/wiki/Asymmetrisches_Kryptosystem, zuletzt aktualisiert am 2009-05-11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OpenPGP – Wikipedia. Wikipedia (de). Online verfügbar unter http://de.wikipedia.org/wiki/OpenPGP, zuletzt aktualisiert am 2009-03-30, zuletzt geprüft am 2009-05-25 M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Skytale – Wikipedia. Wikipedia (de). Online verfügbar unter http://de.wikipedia.org/wiki/Skytale, zuletzt aktualisiert am 2009-04-05, zuletzt geprüft am 2009-05-25 M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Kerckhoffs’ Prinzip – Wikipedia. Wikipedia (de). Online verfügbar unter http://de.wikipedia.org/wiki/Kerckhoffs%E2%80%99_Prinzip, zuletzt aktualisiert am 2009-03-07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Rabin-Kryptosystem – Wikipedia. Wikipedia (de). Online verfügbar unter http://de.wikipedia.org/wiki/Rabin-Kryptosystem, zuletzt aktualisiert am 2009-03-25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Elgamal-Kryptosystem – Wikipedia. Wikipedia (de). Online verfügbar unter http://de.wikipedia.org/wiki/Elgamal-Kryptosystem, zuletzt aktualisiert am 2009-04-12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Verschiebechiffre – Wikipedia. Wikipedia (de). Online verfügbar unter http://de.wikipedia.org/wiki/C%C3%A4sar-Chiffre, zuletzt aktualisiert am 2009-04-30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Claude Elwood Shannon – Wikipedia. Wikipedia (de). Online verfügbar unter http://de.wikipedia.org/wiki/Claude_Shannon, zuletzt aktualisiert am 2009-05-03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Elliptic Curve Cryptography – Wikipedia. Wikipedia (de). Online verfügbar unter http://de.wikipedia.org/wiki/Elliptische-Kurven-Kryptosystem, zuletzt aktualisiert am 2009-04-13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kipedia (de) (2009): Hybride Verschlüsselung – Wikipedia. Wikipedia (de). Online verfügbar unter http://de.wikipedia.org/wiki/Hybride_Verschl%C3%BCsselung, zuletzt aktualisiert am 2009-04-23, zuletzt geprüft am 2009-05-24 So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1076301480_50060ae9ea_o"/>
          <p:cNvPicPr/>
          <p:nvPr/>
        </p:nvPicPr>
        <p:blipFill>
          <a:blip r:embed="rId1"/>
          <a:srcRect l="0" t="1448" r="0" b="9608"/>
          <a:stretch/>
        </p:blipFill>
        <p:spPr>
          <a:xfrm>
            <a:off x="0" y="1906560"/>
            <a:ext cx="9217080" cy="5467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Danke fürs Zuhören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Skytale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360360" y="2103480"/>
            <a:ext cx="8856720" cy="5062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Meilensteine: 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Pyramiden und Stöcke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3.000 – 2.000 v. Chr.: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Ägyptisches Altes Reich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500 v. Chr. – Sparta: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„Skytále“ (Transposition)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w-caesar"/>
          <p:cNvPicPr/>
          <p:nvPr/>
        </p:nvPicPr>
        <p:blipFill>
          <a:blip r:embed="rId1"/>
          <a:stretch/>
        </p:blipFill>
        <p:spPr>
          <a:xfrm>
            <a:off x="6046920" y="1906560"/>
            <a:ext cx="3170160" cy="546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Meilensteine: Was haben uns die Römer gebracht?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2060640"/>
            <a:ext cx="5791320" cy="4217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50 v. Chr.: Caesar (Substitution)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16. Jh.: 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Vigenère-Verschlüsselung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ermöglicht „Passwörter“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1976: DES 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verkettete Permutation 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und Substitution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-936720" y="6286680"/>
            <a:ext cx="11233080" cy="857160"/>
          </a:xfrm>
          <a:prstGeom prst="rect">
            <a:avLst/>
          </a:prstGeom>
          <a:gradFill rotWithShape="0">
            <a:gsLst>
              <a:gs pos="0">
                <a:srgbClr val="ff6600">
                  <a:alpha val="23137"/>
                </a:srgbClr>
              </a:gs>
              <a:gs pos="100000">
                <a:srgbClr val="ff6600">
                  <a:alpha val="2313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Courier New"/>
              </a:rPr>
              <a:t>VWXYZABCDEFGHIJKLMNOPQRSTUVWXYZABCDEFGHIJKLMNOPQRSTUVWXYZ</a:t>
            </a:r>
            <a:br>
              <a:rPr sz="2500"/>
            </a:br>
            <a:r>
              <a:rPr b="1" lang="de-DE" sz="2500" spc="-1" strike="noStrike">
                <a:solidFill>
                  <a:srgbClr val="000000"/>
                </a:solidFill>
                <a:latin typeface="Courier New"/>
              </a:rPr>
              <a:t>YZABCDEFGHIJKLMNOPQRSTUVWXYZABCDEFGHIJKLMNOPQRSTUVWXYZABC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Kerkhoffs"/>
          <p:cNvPicPr/>
          <p:nvPr/>
        </p:nvPicPr>
        <p:blipFill>
          <a:blip r:embed="rId1"/>
          <a:stretch/>
        </p:blipFill>
        <p:spPr>
          <a:xfrm>
            <a:off x="5475240" y="1906560"/>
            <a:ext cx="3741840" cy="5467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Meilensteine: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Franklin Gothic Heavy"/>
              </a:rPr>
              <a:t>Security by Transparency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280" y="2060640"/>
            <a:ext cx="498636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Kerckhoffs’sches Prinzip (1883)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„</a:t>
            </a: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Nur der Schlüssel 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ist das Geheimnis“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Geheimhaltung des </a:t>
            </a:r>
            <a:r>
              <a:rPr b="0" i="1" lang="de-DE" sz="3300" spc="-1" strike="noStrike">
                <a:solidFill>
                  <a:srgbClr val="000000"/>
                </a:solidFill>
                <a:latin typeface="Franklin Gothic Medium"/>
              </a:rPr>
              <a:t>Schlüssels</a:t>
            </a: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 statt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Geheimhaltung des </a:t>
            </a:r>
            <a:r>
              <a:rPr b="0" i="1" lang="de-DE" sz="3300" spc="-1" strike="noStrike">
                <a:solidFill>
                  <a:srgbClr val="000000"/>
                </a:solidFill>
                <a:latin typeface="Franklin Gothic Medium"/>
              </a:rPr>
              <a:t>Algorithmus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Open-Source-Prinzip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Meilensteine:</a:t>
            </a:r>
            <a:br>
              <a:rPr sz="4100"/>
            </a:br>
            <a:r>
              <a:rPr b="0" lang="de-DE" sz="4100" spc="-1" strike="noStrike">
                <a:solidFill>
                  <a:srgbClr val="000000"/>
                </a:solidFill>
                <a:latin typeface="Franklin Gothic Heavy"/>
              </a:rPr>
              <a:t>Maschinelle Verschlüsselung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2060280"/>
            <a:ext cx="4843440" cy="479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8000"/>
          </a:bodyPr>
          <a:p>
            <a:pPr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Enigma (1918 – 1945)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Rotor-Schlüssel-maschin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Militär des Deutschen Reiches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Entzifferung 1938 – 1943 (PL, GB, USA)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37240" indent="-44028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entscheidend für den Sieg der Alliierten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Picture 5" descr="Bundesarchiv_Bild_101I-490-3259-01A,_Im_Westen,_Verschlüsselungsgerät_'Enigma'"/>
          <p:cNvPicPr/>
          <p:nvPr/>
        </p:nvPicPr>
        <p:blipFill>
          <a:blip r:embed="rId1"/>
          <a:srcRect l="14021" t="0" r="39208" b="5165"/>
          <a:stretch/>
        </p:blipFill>
        <p:spPr>
          <a:xfrm>
            <a:off x="5394240" y="1906560"/>
            <a:ext cx="38228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Franklin Gothic Heavy"/>
              </a:rPr>
              <a:t>Meilensteine: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Franklin Gothic Heavy"/>
              </a:rPr>
              <a:t>Das digitale Zeitalter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5562720" cy="508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6000"/>
          </a:bodyPr>
          <a:p>
            <a:pPr marL="447840" indent="-44784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1949: Claude Shannon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14200" indent="-431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Kryptografie auf starker mathematischer Basis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47840" indent="-44784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1976: DES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47840" indent="-44784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Public-Key-Kryptographie: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14200" indent="-431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1976: Diffie &amp; Hellman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1114200" indent="-431280">
              <a:spcBef>
                <a:spcPts val="726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Franklin Gothic Medium"/>
              </a:rPr>
              <a:t>1977: RSA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  <a:p>
            <a:pPr marL="447840" indent="-44784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1991: Pretty Good Privacy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Franklin Gothic Medium"/>
              </a:rPr>
              <a:t>(PGP) – Phil Zimmermann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2" name="Picture 7" descr="PRZ_closeup"/>
          <p:cNvPicPr/>
          <p:nvPr/>
        </p:nvPicPr>
        <p:blipFill>
          <a:blip r:embed="rId1"/>
          <a:srcRect l="2575" t="1942" r="24554" b="1942"/>
          <a:stretch/>
        </p:blipFill>
        <p:spPr>
          <a:xfrm>
            <a:off x="6027840" y="1906560"/>
            <a:ext cx="3189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9680" y="77760"/>
            <a:ext cx="7834320" cy="14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Franklin Gothic Heavy"/>
              </a:rPr>
              <a:t>Übersicht</a:t>
            </a:r>
            <a:endParaRPr b="0" lang="en-US" sz="41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2060640"/>
            <a:ext cx="8245440" cy="4486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cc9900"/>
                </a:solidFill>
                <a:latin typeface="Franklin Gothic Medium"/>
              </a:rPr>
              <a:t>Meilenstein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ffff66"/>
                </a:solidFill>
                <a:latin typeface="Franklin Gothic Medium"/>
              </a:rPr>
              <a:t>Einsatzgebiet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cc9900"/>
                </a:solidFill>
                <a:latin typeface="Franklin Gothic Medium"/>
              </a:rPr>
              <a:t>Symmetrische und asymmetrische Verschlüsselung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cc9900"/>
                </a:solidFill>
                <a:latin typeface="Franklin Gothic Medium"/>
              </a:rPr>
              <a:t>PGP und S/MIME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cc9900"/>
                </a:solidFill>
                <a:latin typeface="Franklin Gothic Medium"/>
              </a:rPr>
              <a:t>Praktischer Einsatz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  <a:p>
            <a:pPr marL="466560" indent="-466560">
              <a:spcBef>
                <a:spcPts val="825"/>
              </a:spcBef>
              <a:buClr>
                <a:srgbClr val="ffcc00"/>
              </a:buClr>
              <a:buFont typeface="Wingdings" charset="2"/>
              <a:buChar char="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cc9900"/>
                </a:solidFill>
                <a:latin typeface="Franklin Gothic Medium"/>
              </a:rPr>
              <a:t>Noch zu lösen …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57:21Z</dcterms:created>
  <dc:creator>Aes</dc:creator>
  <dc:description/>
  <dc:language>en-US</dc:language>
  <cp:lastModifiedBy>Aes</cp:lastModifiedBy>
  <dcterms:modified xsi:type="dcterms:W3CDTF">2009-11-19T13:54:49Z</dcterms:modified>
  <cp:revision>19</cp:revision>
  <dc:subject/>
  <dc:title>Folie 1</dc:title>
</cp:coreProperties>
</file>